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chimes.wav" ContentType="audio/x-wav"/>
  <Override PartName="/ppt/media/laser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FC99-763E-4ABA-A72D-5987FF44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4D69-9151-4166-A2B1-1D0A28213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465-4313-4458-8F82-E02A10966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9F1-7752-4CBE-825B-E18C0ED5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70E35-0B4B-46DC-BF34-FDCEFAD45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CAE35-A15E-455D-8810-F96774D0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54FD-3348-4B53-9B78-8A8645A3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A053-C7C1-44AA-B3A3-958A930B0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A8D68-AF7C-475C-B57E-399B3043E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4FA29-935D-4E2A-A4E0-1F3D74513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03883-BAFA-41FE-83EA-4A6C02E7E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A0A3-D918-4C78-A63F-0E2688850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9F3C2-5430-4DFE-8ADD-1E5AE70AE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C6FE6-00CE-4ED1-AA65-F3410F88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331AF-E4CA-464C-BB3A-1B892141B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2A2E5-76F9-45A3-86E5-837BE656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79F3A-9B72-4C08-9340-45451B9B8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0D6-D947-40D5-800A-57DA25395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DF1E-8618-43CB-9F12-E34225B6B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35B6-36BB-4540-B3FA-1CAFCFE80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A9A60-5C43-4284-857F-4E7412E16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CA81-7505-4DE4-9EC0-10948AA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4F52-8D23-405B-826F-3B05DB66E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0F91-AFAA-4D18-B90E-9576BC14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8E68-4620-4B89-BB12-97B2C943B54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B4EF-02C3-49BC-AC43-F47D0B3B5D0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cc3300"/>
                </a:solidFill>
                <a:latin typeface="Times New Roman"/>
              </a:rPr>
              <a:t>3ª DECLINACIÓN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90720" y="1676520"/>
          <a:ext cx="7772400" cy="426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39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SINENCIAS Masc. / Fem.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NOMIN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VO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CUS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GENI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D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BL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</a:tbl>
          </a:graphicData>
        </a:graphic>
      </p:graphicFrame>
      <p:sp>
        <p:nvSpPr>
          <p:cNvPr id="91" name=""/>
          <p:cNvSpPr/>
          <p:nvPr/>
        </p:nvSpPr>
        <p:spPr>
          <a:xfrm>
            <a:off x="35812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 / 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 / -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8128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17220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722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876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581280" y="4419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7220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17220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172200" y="38098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cc3300"/>
                </a:solidFill>
                <a:latin typeface="Times New Roman"/>
              </a:rPr>
              <a:t>3ª DECLINACIÓN (neutro)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90720" y="1676520"/>
          <a:ext cx="7772400" cy="4262400"/>
        </p:xfrm>
        <a:graphic>
          <a:graphicData uri="http://schemas.openxmlformats.org/drawingml/2006/table">
            <a:tbl>
              <a:tblPr/>
              <a:tblGrid>
                <a:gridCol w="2590920"/>
                <a:gridCol w="2590560"/>
                <a:gridCol w="2590920"/>
              </a:tblGrid>
              <a:tr h="642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36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DESINENCIAS Neutro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1bd6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8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NOMIN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VOC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CUS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GENI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D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6633"/>
                          </a:solidFill>
                          <a:latin typeface="Times New Roman"/>
                        </a:rPr>
                        <a:t>ABLA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5fd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fe1c7"/>
                    </a:solidFill>
                  </a:tcPr>
                </a:tc>
              </a:tr>
            </a:tbl>
          </a:graphicData>
        </a:graphic>
      </p:graphicFrame>
      <p:sp>
        <p:nvSpPr>
          <p:cNvPr id="105" name=""/>
          <p:cNvSpPr/>
          <p:nvPr/>
        </p:nvSpPr>
        <p:spPr>
          <a:xfrm>
            <a:off x="3581280" y="38862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581280" y="33526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8128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--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58128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28195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172200" y="3352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581280" y="48769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81280" y="441972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72200" y="54100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72200" y="487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IB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172200" y="434340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U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72200" y="388620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ec0864"/>
                </a:solidFill>
                <a:latin typeface="Times New Roman"/>
              </a:rPr>
              <a:t>-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4T14:23:34Z</dcterms:created>
  <dc:creator>Rogelio</dc:creator>
  <dc:description/>
  <dc:language>en-US</dc:language>
  <cp:lastModifiedBy>INVES-S6600A</cp:lastModifiedBy>
  <dcterms:modified xsi:type="dcterms:W3CDTF">2009-02-24T18:45:11Z</dcterms:modified>
  <cp:revision>68</cp:revision>
  <dc:subject/>
  <dc:title>Enunciación del sistema nominal</dc:title>
</cp:coreProperties>
</file>